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2D16-330E-4793-9F6F-8806B0998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7171-9669-45E9-BD62-98F608019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D830-0C96-4987-A210-B18B1ECBB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8C1-619A-42DD-91E1-D71CE277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B6A-FC89-48BA-9C5C-47BD6346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E36-1BFC-487F-886F-ECF931A0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2B1-9FE7-46A4-A823-5D2A6F5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7FE-9E59-4C64-996C-4977CFCF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937-C0DA-486F-B376-DBF7FD9E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2F3-2931-44A3-A11A-70DCF584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2A5-32A4-4291-AD73-0F7C9F2F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F7E-DAFA-4BBD-B3DA-EDDE3D40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7BF-CBD9-40EA-B53D-C99DE8FB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E99-C444-4E51-B15D-A17656F6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2B1-9C53-4558-A9AF-F15CCC1C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9AFD-BF73-4E24-AE07-2D99A980AB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6201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33720" y="4114440"/>
            <a:ext cx="4574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, </a:t>
            </a:r>
            <a:r>
              <a:rPr b="0" lang="en-US" sz="2200" spc="-1" strike="noStrike">
                <a:solidFill>
                  <a:srgbClr val="ff6600"/>
                </a:solidFill>
                <a:latin typeface="Calibri"/>
              </a:rPr>
              <a:t>I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417680"/>
            <a:ext cx="3581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Farmer engagement/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 5; not strong en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rn from successes and existing innovations (Innovation platforms in ‘mother’ Africa RI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4199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6840" y="141768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artnershi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ordination among sub-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e involvement of local institutions 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work with private sector for best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665600" y="1066680"/>
            <a:ext cx="4165560" cy="2438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4665600" y="3733920"/>
            <a:ext cx="416556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77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78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Food Security and Coope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Ilong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sa, Mvomero, Babati, Kongwa, Kiteto and Kilombero DA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celerate the scaling and delivery of agricultural technologies to improve smallhold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arming systems, household nutrition, and dietary practic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590400" y="39625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caling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Expanding, adapting and sustaining successful policies, programs and projects in different places and over time to reach a greater number of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990720" y="53341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rtn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frica RISING 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ITA L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NAFAKA, TUBOCHA, national institutions,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9040" y="12078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Objectiv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1200600" y="3700440"/>
            <a:ext cx="679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rop Managemen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1187280" y="4559400"/>
            <a:ext cx="6837480" cy="52056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erving Natural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1174680" y="5392800"/>
            <a:ext cx="68659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Household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1184400" y="2881440"/>
            <a:ext cx="6840360" cy="52056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r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Up-Down Arrow 4"/>
          <p:cNvSpPr/>
          <p:nvPr/>
        </p:nvSpPr>
        <p:spPr>
          <a:xfrm>
            <a:off x="7723080" y="1884240"/>
            <a:ext cx="1476360" cy="505152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9a743a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ing Food Wastage and Spoil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Up-Down Arrow 10"/>
          <p:cNvSpPr/>
          <p:nvPr/>
        </p:nvSpPr>
        <p:spPr>
          <a:xfrm>
            <a:off x="14400" y="1879560"/>
            <a:ext cx="1473120" cy="504972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4ea5d8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Empowerment and 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286000" y="685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Location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1023840" y="1541520"/>
            <a:ext cx="8215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nd dissemination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9" name="Content Placeholder 3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7502400" cy="45259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1523880" y="6324480"/>
            <a:ext cx="4724640" cy="3812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Linn et al.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 exampl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2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xperienc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The innov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of activities to project objectives and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 farmers in selection of the best for their agroeco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tibility with farmers’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 selection very import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Knowledge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indicators from the begi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ed data collection procedures (use of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DCF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156834"/>
                </a:solidFill>
                <a:latin typeface="Calibri"/>
              </a:rPr>
              <a:t>database for farm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and monitoring vis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12T15:36:39Z</dcterms:modified>
  <cp:revision>23</cp:revision>
  <dc:subject/>
  <dc:title>PowerPoint Presentation</dc:title>
</cp:coreProperties>
</file>